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2C4C-4952-4F5F-B442-3E879204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8D05-A314-48E0-BB52-FB5ACA29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2C8A-0435-4F1A-9EE2-72562AF5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0046-9E0E-4833-A51B-4D7AE4C0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7108-6E93-40E9-95FD-435D63FB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7BA1-5B4A-469B-8795-F9BB300C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14DA-E49F-49EE-93FC-ABC42356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F55E-E884-4E8C-8FB9-A233D8F0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2095-1951-45EE-8306-CA44D10A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D99-6CD5-4D2E-918F-2179E987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D2F-9279-4CAC-8450-1A46107F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CC5-E1B4-45FC-BFAE-BA0276DF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EBDC-7C29-4BAC-B260-56F190F02068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42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773000" y="2416680"/>
            <a:ext cx="12327120" cy="19227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قديس فيك تكون شو ناطر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حياتك من دون إيمانك شو ه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3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059480" y="4097880"/>
            <a:ext cx="11264760" cy="19227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فكر بللي جايي ... كمِّل للنهاي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بتلاقي البداية ... بالسما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42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1773000" y="2416680"/>
            <a:ext cx="12327120" cy="19227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قديس فيك تكون شو ناطر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حياتك من دون إيمانك شو ه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1848240" y="4854960"/>
            <a:ext cx="1279476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آمن برب الكون صلي وأطلب العو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درب السما من هون بتبلش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848240" y="4854960"/>
            <a:ext cx="1279476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آمن برب الكون صلي وأطلب العو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درب السما من هون بتبلش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42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1773000" y="2416680"/>
            <a:ext cx="12327120" cy="19227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قديس فيك تكون شو ناطر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حياتك من دون إيمانك شو ه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1848240" y="4854960"/>
            <a:ext cx="1279476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آمن برب الكون صلي وأطلب العو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درب السما من هون بتبلش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689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006080" y="821520"/>
            <a:ext cx="6083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قلي شو ناطر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ما تقلي بكي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بإيمانك قادر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قديس إنت تصي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829800" cy="7327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435960" y="380520"/>
            <a:ext cx="99158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00"/>
                </a:solidFill>
                <a:latin typeface="Arial"/>
              </a:rPr>
              <a:t>درب السما مقشوع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0" lang="ar-SA" sz="5000" spc="-1" strike="noStrike">
                <a:solidFill>
                  <a:srgbClr val="ffff00"/>
                </a:solidFill>
                <a:latin typeface="Arial"/>
              </a:rPr>
              <a:t>محبة كلو مزر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00"/>
                </a:solidFill>
                <a:latin typeface="Arial"/>
              </a:rPr>
              <a:t>ضل مرافق يس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00"/>
                </a:solidFill>
                <a:latin typeface="Arial"/>
              </a:rPr>
              <a:t>                                    </a:t>
            </a:r>
            <a:r>
              <a:rPr b="0" lang="ar-SA" sz="5000" spc="-1" strike="noStrike">
                <a:solidFill>
                  <a:srgbClr val="ffff00"/>
                </a:solidFill>
                <a:latin typeface="Arial"/>
              </a:rPr>
              <a:t>للسما يا خي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42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1773000" y="2416680"/>
            <a:ext cx="12327120" cy="19227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قديس فيك تكون شو ناطر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حياتك من دون إيمانك شو ه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1848240" y="4854960"/>
            <a:ext cx="1279476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آمن برب الكون صلي وأطلب العو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درب السما من هون بتبلش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829800" cy="7364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0920" y="4402800"/>
            <a:ext cx="106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درب القداسة مليانة محب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لو شفتا قاسية ما تفكر صعب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1:30:56Z</dcterms:created>
  <dc:creator>user</dc:creator>
  <dc:description/>
  <dc:language>en-US</dc:language>
  <cp:lastModifiedBy>user</cp:lastModifiedBy>
  <dcterms:modified xsi:type="dcterms:W3CDTF">2006-09-01T13:41:35Z</dcterms:modified>
  <cp:revision>14</cp:revision>
  <dc:subject/>
  <dc:title>Slide 1</dc:title>
</cp:coreProperties>
</file>